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45C-1DE6-4272-B2AD-1915D6AE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1AD-EC3F-48E4-B8FF-D33EF6E3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82F-4813-4305-BD7D-16E40347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9DC-CFE2-4766-AF6A-9EC124D8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951-7A02-4A78-8B3C-4A2106FC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3AF-24BC-4EA5-8EA1-7D9C9378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0D8-42E1-4C63-B728-A25DD192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B60-FEE2-4A7A-A7D3-59A964F7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183-D495-4920-8338-343B9DBC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E54-BB0D-4EDE-A83E-3C5BA5B4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4D4-3A15-43EA-9BA3-F8C54AB5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686-B2D3-4977-A47A-B0851020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6FB4-81CD-4C68-AF3C-48D1222D2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عرف المؤمنون ا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لاماته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أصحاب الأعراف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رابط مستقيم 18"/>
          <p:cNvSpPr/>
          <p:nvPr/>
        </p:nvSpPr>
        <p:spPr>
          <a:xfrm flipH="1">
            <a:off x="4571640" y="24210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9"/>
          <p:cNvSpPr/>
          <p:nvPr/>
        </p:nvSpPr>
        <p:spPr>
          <a:xfrm flipH="1">
            <a:off x="4566960" y="267804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0"/>
          <p:cNvCxnSpPr/>
          <p:nvPr/>
        </p:nvCxnSpPr>
        <p:spPr>
          <a:xfrm flipH="1">
            <a:off x="8456040" y="3573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3357720"/>
            <a:ext cx="8208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ثم تسعهم رحمة الله بعد تطهيرهم من الذن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29"/>
          <p:cNvSpPr/>
          <p:nvPr/>
        </p:nvSpPr>
        <p:spPr>
          <a:xfrm>
            <a:off x="8820000" y="2671920"/>
            <a:ext cx="0" cy="90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0"/>
          <p:cNvCxnSpPr/>
          <p:nvPr/>
        </p:nvCxnSpPr>
        <p:spPr>
          <a:xfrm flipH="1">
            <a:off x="8456040" y="2997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324000" y="280368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بسون على سور بين الجنة والن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50920" y="4005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فلا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كثار من الطاعات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السيئ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472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716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حتقار العمل الصالح ولو قل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607240" cy="266400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3933720"/>
            <a:ext cx="8597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لي ، غير مصل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صلي : تسهل عليه جميع الطاعات ويكون محبوباً من الله ومن جميع الناس وتكون حياته سعيدة ويوم القيامة في الج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غير مصلي : تصعب عليه جميع الطاعات ويكون مكروهاً من الله ومن جميع الناس وتكون حياته تعيسه ويوم القيامة في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8355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351792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عدنا على الإيمان والعمل الصالح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106200" y="907920"/>
            <a:ext cx="883764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880920" y="2781360"/>
            <a:ext cx="806292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1346040" y="4292640"/>
            <a:ext cx="7525080" cy="70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3995640" y="1504800"/>
            <a:ext cx="4330800" cy="77184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72880" y="502920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بي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47"/>
          <a:stretch/>
        </p:blipFill>
        <p:spPr>
          <a:xfrm>
            <a:off x="250920" y="692280"/>
            <a:ext cx="86421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9129600" cy="116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20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909720" y="1268280"/>
            <a:ext cx="7858080" cy="93672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249228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أصحاب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922320"/>
            <a:ext cx="91314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2308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438120" y="443700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عذا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406440" y="503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ُه، والطّرد من رحمت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858960"/>
            <a:ext cx="865332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430200" y="562608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يطلوبنها معوج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17600" y="61786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ن أصحاب الجنة والنار سو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737560" cy="7920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06064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ئط بين الجنة والنا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صحاب الأعراف هم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م تساوت حسناتهم وسيئاتهم فحبسوا على الأعراف حتى يقضي الله في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56536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نداء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قريع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وبي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عتراف الكفار بالوعد يوم القيامة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فع ولا يج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كل إنسان يجازى بعمله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30064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ج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3279600" y="2492280"/>
            <a:ext cx="424512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324000" y="4500720"/>
            <a:ext cx="8516880" cy="72360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0920" y="60609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جاب الذي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يشرف على الدارين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ينظر من عليه أهل الجنة وأه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